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BD52A-3646-482A-B5C0-657BE73BE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59AA8-BE66-425B-812D-F95CEA800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980D-BE44-4728-9C28-541DEDE56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129D5-735B-4632-AEF4-495EEFBC0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E2C8-E6F0-4710-AC6F-49C9CF6F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3"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5"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42729-29A7-4283-A353-8580C467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9C76C-AEFB-4C14-ACBC-E2CCC20C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F47A-3C76-495B-B5D0-041D7789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6347-7660-47E2-A19E-DB20F0C9C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B4F9-3127-4AC4-996E-0ED12F61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C401-0B40-4E46-A6DD-B5B2F055D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7533-07BD-4BB1-9431-8D7824DD0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j0382574"/>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BBFB-472E-4E7E-92D4-DB7E5A70980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A3F3-5C02-4E6B-9672-9980195355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j0382574"/>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1.teachertube.com/viewVideo.php?video_id=448&amp;title=Pay_Atten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npr.org/2010/12/29/132369113/the-price-of-having-your-brain-on-computer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allows by Nicholas Carr </a:t>
            </a:r>
            <a:br>
              <a:rPr sz="2800"/>
            </a:br>
            <a:r>
              <a:rPr b="1" lang="en-US" sz="2800" spc="-1" strike="noStrike">
                <a:solidFill>
                  <a:srgbClr val="000000"/>
                </a:solidFill>
                <a:latin typeface="Arial"/>
              </a:rPr>
              <a:t> Chapter 4,5,and 6</a:t>
            </a:r>
            <a:endParaRPr b="1" lang="en-US" sz="2800" spc="-1" strike="noStrike">
              <a:solidFill>
                <a:srgbClr val="000000"/>
              </a:solidFill>
              <a:latin typeface="Arial"/>
            </a:endParaRPr>
          </a:p>
        </p:txBody>
      </p:sp>
      <p:sp>
        <p:nvSpPr>
          <p:cNvPr id="82" name="PlaceHolder 2"/>
          <p:cNvSpPr>
            <a:spLocks noGrp="1"/>
          </p:cNvSpPr>
          <p:nvPr>
            <p:ph type="subTitle"/>
          </p:nvPr>
        </p:nvSpPr>
        <p:spPr>
          <a:xfrm>
            <a:off x="533520" y="53337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ch Jones and Linda Dayw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 4 Group Generalizations of Technology</a:t>
            </a:r>
            <a:endParaRPr b="1" lang="en-US" sz="3200" spc="-1" strike="noStrike">
              <a:solidFill>
                <a:srgbClr val="000000"/>
              </a:solidFill>
              <a:latin typeface="Arial"/>
            </a:endParaRPr>
          </a:p>
        </p:txBody>
      </p:sp>
      <p:sp>
        <p:nvSpPr>
          <p:cNvPr id="110" name=""/>
          <p:cNvSpPr txBox="1"/>
          <p:nvPr/>
        </p:nvSpPr>
        <p:spPr>
          <a:xfrm>
            <a:off x="304560" y="1219320"/>
            <a:ext cx="6476760" cy="4906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 page 72 Carr writes "any generalization about the adoption and use of a new technology will be imperfec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your group, you will think of the different generalizations of one technology.  You will have three minutes.</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then create a tree map of each of the technologies.</a:t>
            </a:r>
            <a:endParaRPr b="0" lang="en-US" sz="2700" spc="-1" strike="noStrike">
              <a:solidFill>
                <a:srgbClr val="000000"/>
              </a:solidFill>
              <a:latin typeface="Arial"/>
            </a:endParaRPr>
          </a:p>
        </p:txBody>
      </p:sp>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EE12-8A9E-4DC8-84D3-431B09B3B7C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E7B9-E6C2-4767-B54E-7F37113338D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2280" y="1066680"/>
            <a:ext cx="594360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77 Explain whether you support or do not support this statemen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a world is technologized, is it possible to be de-technologized?</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new intellectual ethic is Carr referring to in this passage?</a:t>
            </a:r>
            <a:endParaRPr b="0" lang="en-US" sz="2700" spc="-1" strike="noStrike">
              <a:solidFill>
                <a:srgbClr val="000000"/>
              </a:solidFill>
              <a:latin typeface="Arial"/>
            </a:endParaRPr>
          </a:p>
        </p:txBody>
      </p:sp>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9C1D-C022-4878-A481-F5CDF55471E9}"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B1C0-EE4E-4074-892C-C30155092C6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16" name="TextBox 4"/>
          <p:cNvSpPr/>
          <p:nvPr/>
        </p:nvSpPr>
        <p:spPr>
          <a:xfrm>
            <a:off x="1219320" y="304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Clos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Medium of the most General Nature</a:t>
            </a:r>
            <a:endParaRPr b="1" lang="en-US" sz="3200" spc="-1" strike="noStrike">
              <a:solidFill>
                <a:srgbClr val="000000"/>
              </a:solidFill>
              <a:latin typeface="Arial"/>
            </a:endParaRPr>
          </a:p>
        </p:txBody>
      </p:sp>
      <p:sp>
        <p:nvSpPr>
          <p:cNvPr id="118" name=""/>
          <p:cNvSpPr txBox="1"/>
          <p:nvPr/>
        </p:nvSpPr>
        <p:spPr>
          <a:xfrm>
            <a:off x="228600" y="1143000"/>
            <a:ext cx="6324480" cy="51055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agree with this video that by incorporating the following technologies (cell phones, iPods, wikis, blogs, web quests, Internet, podcasts, email, and GPS) students will pay attention better?</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type of preparations should a teacher do in order to be able to manage/teach a class successfully with suggested technology from the video?</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574D-50FA-4E4B-B779-C209DB21684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F8F4-9796-42EF-B623-C9C7B260BFE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1" name="TextBox 6"/>
          <p:cNvSpPr/>
          <p:nvPr/>
        </p:nvSpPr>
        <p:spPr>
          <a:xfrm>
            <a:off x="304920" y="762120"/>
            <a:ext cx="85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1.teachertube.com/viewVideo.php?video_id=448&amp;title=Pay_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1600200"/>
            <a:ext cx="586728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from listening: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Do you feel that you truly cannot do more than one thing efficiently at a time? </a:t>
            </a:r>
            <a:endParaRPr b="0" lang="en-US" sz="27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Is it riskier to talk on a cell phone even if on a hands-on device in a car? Support your answer. </a:t>
            </a:r>
            <a:br>
              <a:rPr sz="2700"/>
            </a:br>
            <a:endParaRPr b="0" lang="en-US" sz="2700" spc="-1" strike="noStrike">
              <a:solidFill>
                <a:srgbClr val="000000"/>
              </a:solidFill>
              <a:latin typeface="Arial"/>
            </a:endParaRPr>
          </a:p>
        </p:txBody>
      </p:sp>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D0B5-FCA1-4321-9440-D28DA1D8E2D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88ED-331F-483F-81E0-2D85D0A3ED1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5" name="TextBox 4"/>
          <p:cNvSpPr/>
          <p:nvPr/>
        </p:nvSpPr>
        <p:spPr>
          <a:xfrm>
            <a:off x="533520" y="6858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pr.org/2010/12/29/132369113/the-price-of-having-your-brain-on-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More Questions </a:t>
            </a:r>
            <a:endParaRPr b="1" lang="en-US" sz="3200" spc="-1" strike="noStrike">
              <a:solidFill>
                <a:srgbClr val="000000"/>
              </a:solidFill>
              <a:latin typeface="Arial"/>
            </a:endParaRPr>
          </a:p>
        </p:txBody>
      </p:sp>
      <p:sp>
        <p:nvSpPr>
          <p:cNvPr id="127" name=""/>
          <p:cNvSpPr txBox="1"/>
          <p:nvPr/>
        </p:nvSpPr>
        <p:spPr>
          <a:xfrm>
            <a:off x="304560" y="1295280"/>
            <a:ext cx="6019560" cy="4525920"/>
          </a:xfrm>
          <a:prstGeom prst="rect">
            <a:avLst/>
          </a:prstGeom>
          <a:noFill/>
          <a:ln w="0">
            <a:noFill/>
          </a:ln>
        </p:spPr>
        <p:txBody>
          <a:bodyPr anchor="t">
            <a:normAutofit fontScale="90000"/>
          </a:bodyPr>
          <a:p>
            <a:pPr marL="308520" indent="-308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89 - Carr cites McLuhan from </a:t>
            </a:r>
            <a:r>
              <a:rPr b="0" i="1" lang="en-US" sz="2700" spc="-1" strike="noStrike">
                <a:solidFill>
                  <a:srgbClr val="000000"/>
                </a:solidFill>
                <a:latin typeface="Arial"/>
              </a:rPr>
              <a:t>Understanding Media</a:t>
            </a:r>
            <a:r>
              <a:rPr b="0" lang="en-US" sz="2700" spc="-1" strike="noStrike">
                <a:solidFill>
                  <a:srgbClr val="000000"/>
                </a:solidFill>
                <a:latin typeface="Arial"/>
              </a:rPr>
              <a:t> when he states “A new medium is never an addition to an old one, nor does it leave the old one in peace. It never ceases to oppress the older media until it finds new shapes and positions for them.” How do newspapers fit within this quote? </a:t>
            </a: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ADAF-791D-433F-88A8-8BE99DBF465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CB91-89B4-4956-AA25-D2525C2FEB2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1" name=""/>
          <p:cNvSpPr txBox="1"/>
          <p:nvPr/>
        </p:nvSpPr>
        <p:spPr>
          <a:xfrm>
            <a:off x="151920" y="990720"/>
            <a:ext cx="6248520" cy="4906800"/>
          </a:xfrm>
          <a:prstGeom prst="rect">
            <a:avLst/>
          </a:prstGeom>
          <a:noFill/>
          <a:ln w="0">
            <a:noFill/>
          </a:ln>
        </p:spPr>
        <p:txBody>
          <a:bodyPr anchor="t">
            <a:normAutofit fontScale="93000"/>
          </a:bodyPr>
          <a:p>
            <a:pPr marL="318960" indent="-31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 91 – “Interactivity, hyperlinking, searchability, multimedia – all these qualities of the Net bring attractive benefits. Along with the unprecedented volume of information available online, they’re the main reasons that most of us are drawn to using the Net so much.” For the next 2 minutes, list the benefits of the internet. Afterwards have them share with partners and then finally we can create a tree map of what each category they fit into. </a:t>
            </a:r>
            <a:br>
              <a:rPr sz="2600"/>
            </a:br>
            <a:endParaRPr b="0" lang="en-US" sz="2600" spc="-1" strike="noStrike">
              <a:solidFill>
                <a:srgbClr val="000000"/>
              </a:solidFill>
              <a:latin typeface="Arial"/>
            </a:endParaRPr>
          </a:p>
        </p:txBody>
      </p:sp>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3A8A-8F1E-40B5-AABF-7B49133F55C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39D3-9791-42EB-8FD6-D20B6157AAA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5" name=""/>
          <p:cNvSpPr txBox="1"/>
          <p:nvPr/>
        </p:nvSpPr>
        <p:spPr>
          <a:xfrm>
            <a:off x="228600" y="2133360"/>
            <a:ext cx="5486400" cy="373356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92 – “our use of the net will only grow, and its impact on us will only strengthen, as it becomes ever more present in our lives.” Later “As the net expands, other media contracts.” Do you agree with this statement or not and why? </a:t>
            </a:r>
            <a:br>
              <a:rPr sz="2700"/>
            </a:br>
            <a:endParaRPr b="0" lang="en-US" sz="2700" spc="-1" strike="noStrike">
              <a:solidFill>
                <a:srgbClr val="000000"/>
              </a:solidFill>
              <a:latin typeface="Arial"/>
            </a:endParaRPr>
          </a:p>
        </p:txBody>
      </p:sp>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0500-C9DB-428A-9CA7-CE79926C719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B605-A12F-4A54-9BC6-D1AED67FEC7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The Very Image of a Book</a:t>
            </a:r>
            <a:endParaRPr b="1" lang="en-US" sz="40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FBF9-22DA-4085-ABAF-A049C358401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9FF0-8D23-4A32-B5C7-15F1945D967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141" name="Macintosh HD:Users:micheleomurphy:Desktop:Presentation:Book Wars_ iPad and Kindle on Trial!.flv" descr="/Users/micheleomurphy/Desktop/Presentation/Book Wars_ iPad and Kindle on Trial!.flv"/>
          <p:cNvPicPr/>
          <p:nvPr/>
        </p:nvPicPr>
        <p:blipFill>
          <a:blip r:embed="rId1"/>
          <a:stretch/>
        </p:blipFill>
        <p:spPr>
          <a:xfrm>
            <a:off x="457200" y="1523880"/>
            <a:ext cx="8399520" cy="4724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1"/>
                    </p:tgtEl>
                  </p:cond>
                </p:stCondLst>
                <p:childTnLst>
                  <p:par>
                    <p:cTn id="15" fill="hold">
                      <p:stCondLst>
                        <p:cond evt="onClick">
                          <p:tgtEl>
                            <p:spTgt spid="14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51920" y="152280"/>
            <a:ext cx="6629400" cy="647712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E-Books or paper books be used in the classroom setting?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0 Minutes group discussion</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rr book and two article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B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atements 3 Minutes each sid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76BA-8413-4C20-9C79-7A32AB7EC27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5" name=""/>
          <p:cNvSpPr txBox="1"/>
          <p:nvPr/>
        </p:nvSpPr>
        <p:spPr>
          <a:xfrm>
            <a:off x="228600" y="914040"/>
            <a:ext cx="5943600" cy="5257800"/>
          </a:xfrm>
          <a:prstGeom prst="rect">
            <a:avLst/>
          </a:prstGeom>
          <a:noFill/>
          <a:ln w="0">
            <a:noFill/>
          </a:ln>
        </p:spPr>
        <p:txBody>
          <a:bodyPr anchor="t">
            <a:normAutofit fontScale="89000"/>
          </a:bodyPr>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102 – “E-Books should not just be print books delivered electronically.” Do your support or reject this statement and why? Can an E-Book become to electronic? </a:t>
            </a:r>
            <a:endParaRPr b="0" lang="en-US" sz="2700" spc="-1" strike="noStrike">
              <a:solidFill>
                <a:srgbClr val="000000"/>
              </a:solidFill>
              <a:latin typeface="Arial"/>
            </a:endParaRPr>
          </a:p>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Page 104 – “Changes in reading style will also bring changes in writing style, as authors and their publishers adapt to readers’ new habits and expectations.” How will the new technology and E-books change writing styles? </a:t>
            </a:r>
            <a:br>
              <a:rPr sz="2700"/>
            </a:br>
            <a:endParaRPr b="0" lang="en-US" sz="2700" spc="-1" strike="noStrike">
              <a:solidFill>
                <a:srgbClr val="000000"/>
              </a:solidFill>
              <a:latin typeface="Arial"/>
            </a:endParaRPr>
          </a:p>
        </p:txBody>
      </p:sp>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035F-FC79-4EFE-8A96-324FE7FB8DC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The Deepening Page</a:t>
            </a:r>
            <a:endParaRPr b="1"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6C32-B39A-4862-913A-324F1C5FE6F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AADB-1C72-484D-9105-F2A7959A5FC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86" name="Macintosh HD:Users:micheleomurphy:Desktop:Presentation:Remediation Project-History of Books.flv" descr="Macintosh HD:Users:micheleomurphy:Desktop:Presentation:Remediation Project-History of Books.flv"/>
          <p:cNvPicPr/>
          <p:nvPr/>
        </p:nvPicPr>
        <p:blipFill>
          <a:blip r:embed="rId1"/>
          <a:stretch/>
        </p:blipFill>
        <p:spPr>
          <a:xfrm>
            <a:off x="762120" y="990720"/>
            <a:ext cx="7467480" cy="56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8" name=""/>
          <p:cNvSpPr txBox="1"/>
          <p:nvPr/>
        </p:nvSpPr>
        <p:spPr>
          <a:xfrm>
            <a:off x="304560" y="1600200"/>
            <a:ext cx="6095880" cy="452592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you the “juggler” as Carr puts it or the solitary single-minded concentrator? How has this changed since technology has been added? </a:t>
            </a:r>
            <a:endParaRPr b="0" lang="en-US" sz="2700" spc="-1" strike="noStrike">
              <a:solidFill>
                <a:srgbClr val="000000"/>
              </a:solidFill>
              <a:latin typeface="Arial"/>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If you had to live one week without a computer, cell phone, iPad, etc… what would you do and how dramatically would this affect your lifestyle?</a:t>
            </a:r>
            <a:endParaRPr b="0" lang="en-US" sz="27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DAC8-DC6A-44AF-8F08-794C0644AC7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122E-1D5D-47AB-838C-4F725152247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99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1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2158-7DEC-4D10-95AF-EEF7FD6ED583}"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79C0-E8A5-4165-B54F-93577C39ADA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5437-B95E-48EC-915C-E094187B972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6752-7176-40F7-ADAE-09F8BCDE5FD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90" name="Macintosh HD:Users:micheleomurphy:Desktop:Presentation:Episode 17_ The Evolutionary Roots of the Reading Brain.flv" descr="/Users/micheleomurphy/Desktop/Presentation/Episode 17_ The Evolutionary Roots of the Reading Brain.flv"/>
          <p:cNvPicPr/>
          <p:nvPr/>
        </p:nvPicPr>
        <p:blipFill>
          <a:blip r:embed="rId1"/>
          <a:stretch/>
        </p:blipFill>
        <p:spPr>
          <a:xfrm>
            <a:off x="304920" y="1371600"/>
            <a:ext cx="853416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0"/>
                    </p:tgtEl>
                  </p:cond>
                </p:stCondLst>
                <p:childTnLst>
                  <p:par>
                    <p:cTn id="9" fill="hold">
                      <p:stCondLst>
                        <p:cond evt="onClick">
                          <p:tgtEl>
                            <p:spTgt spid="9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28600" y="152280"/>
            <a:ext cx="5943600" cy="6019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how we have learned to read being changed in dramatic ways when we are screen readers?</a:t>
            </a:r>
            <a:br>
              <a:rPr sz="2700"/>
            </a:b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ll the reading circuit of the brain, because it’s being distracted and pulled to another piece of information on a computer screen, be able to pull from the next piece of information and adapt? Or will it fail to activate or short circuit the entirety of the deep reading process?</a:t>
            </a:r>
            <a:endParaRPr b="0" lang="en-US" sz="2700" spc="-1" strike="noStrike">
              <a:solidFill>
                <a:srgbClr val="000000"/>
              </a:solidFill>
              <a:latin typeface="Arial"/>
            </a:endParaRPr>
          </a:p>
        </p:txBody>
      </p:sp>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2084-B1A8-499A-B8C9-2113EA75E79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D0DD-AE59-4217-8B24-98B906716CB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04920" y="609480"/>
            <a:ext cx="5943600" cy="518184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3 - "To read a long book silently required an ability to concentrate intently over a long period of time, to "lose oneself in the pages of a book as we now say."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reading for you changed since the internet became popular? Do you find yourself lost in a book or wandering around the web?</a:t>
            </a:r>
            <a:endParaRPr b="0" lang="en-US" sz="27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847D-685B-4407-AA2C-07A2C9D07C6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C826-B86A-4EEE-95E4-F1B8EE13B02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80880" y="914400"/>
            <a:ext cx="5486400" cy="4114800"/>
          </a:xfrm>
          <a:prstGeom prst="rect">
            <a:avLst/>
          </a:prstGeom>
          <a:noFill/>
          <a:ln w="0">
            <a:noFill/>
          </a:ln>
        </p:spPr>
        <p:txBody>
          <a:bodyPr anchor="t">
            <a:normAutofit fontScale="99000"/>
          </a:bodyPr>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4-65 - "They thought deeply as they read deeply" </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reading foster critical thinking at all times?</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re students able to be taught critical thinking skills without the deep reading?</a:t>
            </a:r>
            <a:endParaRPr b="0" lang="en-US" sz="27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1BC8-2673-4D54-8DC2-4B06275F912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B2E-3836-4E34-A0C9-646BBEBB7DB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838080"/>
            <a:ext cx="5943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65 - "The brain of the book reader was more than a literate brain. It was a literary bra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Carr meant by this passage. Do you agree with his thinking or not? Explain.</a:t>
            </a:r>
            <a:endParaRPr b="0" lang="en-US" sz="28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C33B-D4A6-41A4-A291-E60C837F301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9F62-50C5-47D8-B166-272DC20E1C6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52280" y="761760"/>
            <a:ext cx="6400800" cy="5257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6 - "The advances in book technology changed the personal experience of reading and writing. They also had social consequences." For example - reference books became aids to reading; books had set prices, etc.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ocial changes do you feel will occur with the book being switched from hand- held to mostly online? </a:t>
            </a:r>
            <a:endParaRPr b="0" lang="en-US" sz="2700" spc="-1" strike="noStrike">
              <a:solidFill>
                <a:srgbClr val="000000"/>
              </a:solidFill>
              <a:latin typeface="Arial"/>
            </a:endParaRPr>
          </a:p>
        </p:txBody>
      </p:sp>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8D7B-BB40-46F7-93EC-67A5716A1C6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781D-2794-4C36-8515-C46F074B35F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04920" y="456840"/>
            <a:ext cx="6705360" cy="57913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9 - "By turning a manual craft into a mechanical industry, Gutenberg had changed the economics of printing and publishing. Large editions of perfect copies could be mass produced quickly by a few workers. Books went from being expensive, scare commodities to being affordable, plentiful ones."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the invention of new technology changed the economic industry? Is this a good effect or a bad effect on us and why? </a:t>
            </a:r>
            <a:endParaRPr b="0" lang="en-US" sz="2700" spc="-1" strike="noStrike">
              <a:solidFill>
                <a:srgbClr val="000000"/>
              </a:solidFill>
              <a:latin typeface="Arial"/>
            </a:endParaRPr>
          </a:p>
        </p:txBody>
      </p:sp>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9D11-A641-4CB4-93D6-B187027BB8B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862E-2FCB-4F52-8419-F8A33EC159F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22:36:26Z</dcterms:created>
  <dc:creator>Linda</dc:creator>
  <dc:description/>
  <dc:language>en-US</dc:language>
  <cp:lastModifiedBy>Michele Murphy</cp:lastModifiedBy>
  <dcterms:modified xsi:type="dcterms:W3CDTF">2011-02-09T23:07:45Z</dcterms:modified>
  <cp:revision>33</cp:revision>
  <dc:subject/>
  <dc:title>Slide 1</dc:title>
</cp:coreProperties>
</file>